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276-C999-4CB3-B831-BF8D531E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EF3-5CCE-4063-AA67-EFCF2A8E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7B0-52D1-4C63-9FC0-4F16B652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9B41-8D48-4F78-AC89-BBDA5936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8DA-7334-47CA-B9DE-4EE9B39B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866-E484-409B-9AF2-F22B1866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D04-6BC6-4C95-AE46-89EDD847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F28-A4F2-4431-924C-56983DAF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0977-A6F9-4A4D-B61F-A0930A3B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213-0197-405F-AEEF-8FB19C5D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E9D-362A-4037-AF04-23F31893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D92-1D41-4066-B4F6-F3BA9C69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77C4-70CB-44D2-A82D-93E8B2F86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what factors does friction depe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30592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4424400" cy="4496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780240" y="1143000"/>
            <a:ext cx="2363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19920" y="2286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measure the force of friction between the block and the t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etic Friction &lt;  Static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038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9810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an object gets moving, friction get’s 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ents Table of Coefficients of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-228600"/>
            <a:ext cx="685800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219320"/>
            <a:ext cx="807696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force of friction between a waxed ski sliding on snow when an 800 N skier is skiing horizont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a skier half as heavy where on the same skis and s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: Downhill without friction (imaginar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057400"/>
            <a:ext cx="8077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were perfectly frictionless snow find the acceleration of an 800 N skier is ski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a 3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85800" y="3809880"/>
            <a:ext cx="2971800" cy="2057400"/>
            <a:chOff x="685800" y="3809880"/>
            <a:chExt cx="2971800" cy="2057400"/>
          </a:xfrm>
        </p:grpSpPr>
        <p:sp>
          <p:nvSpPr>
            <p:cNvPr id="57" name=""/>
            <p:cNvSpPr/>
            <p:nvPr/>
          </p:nvSpPr>
          <p:spPr>
            <a:xfrm flipV="1">
              <a:off x="685800" y="419076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2120" y="54100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57600" y="4191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4495680"/>
              <a:ext cx="4572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47242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676520" y="3809880"/>
              <a:ext cx="3808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963960" y="3276720"/>
            <a:ext cx="4646520" cy="2209680"/>
            <a:chOff x="3963960" y="3276720"/>
            <a:chExt cx="4646520" cy="2209680"/>
          </a:xfrm>
        </p:grpSpPr>
        <p:sp>
          <p:nvSpPr>
            <p:cNvPr id="64" name=""/>
            <p:cNvSpPr/>
            <p:nvPr/>
          </p:nvSpPr>
          <p:spPr>
            <a:xfrm>
              <a:off x="4648320" y="434340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4266720" y="3429000"/>
              <a:ext cx="38124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4419720"/>
              <a:ext cx="457200" cy="761760"/>
            </a:xfrm>
            <a:prstGeom prst="line">
              <a:avLst/>
            </a:prstGeom>
            <a:ln w="936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724280" y="5257800"/>
              <a:ext cx="457200" cy="228600"/>
            </a:xfrm>
            <a:prstGeom prst="line">
              <a:avLst/>
            </a:prstGeom>
            <a:ln w="936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63960" y="4724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76920" y="4495680"/>
              <a:ext cx="373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y =800 cos30 = 692N = </a:t>
              </a:r>
              <a:r>
                <a:rPr b="1" lang="en-US" sz="2400" spc="-1" strike="noStrike">
                  <a:solidFill>
                    <a:srgbClr val="000000"/>
                  </a:solidFill>
                  <a:latin typeface="Artis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3400" y="32767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tis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-F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952880" y="533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x =800 sin30 = 400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5791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 =800N = mg ,  then m = 80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85324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net = Fx = ma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= 80a   so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 = 5 m/s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3: Downhill with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60020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force of friction between a waxed ski sliding on snow when an 800 N skier is skiing on a 3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cline. Then find the skiers accel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5800" y="3809880"/>
            <a:ext cx="2971800" cy="2057400"/>
            <a:chOff x="685800" y="3809880"/>
            <a:chExt cx="2971800" cy="2057400"/>
          </a:xfrm>
        </p:grpSpPr>
        <p:sp>
          <p:nvSpPr>
            <p:cNvPr id="77" name=""/>
            <p:cNvSpPr/>
            <p:nvPr/>
          </p:nvSpPr>
          <p:spPr>
            <a:xfrm flipV="1">
              <a:off x="685800" y="419076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120" y="54100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7600" y="4191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28800" y="4495680"/>
              <a:ext cx="4572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57400" y="47242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1676520" y="3809880"/>
              <a:ext cx="3808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flipV="1">
            <a:off x="2057400" y="44197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648320" y="403812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510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720" y="4419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533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x =800 sin30 = 400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019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net = Fx – f =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63960" y="3276720"/>
            <a:ext cx="4646520" cy="2209680"/>
            <a:chOff x="3963960" y="3276720"/>
            <a:chExt cx="4646520" cy="2209680"/>
          </a:xfrm>
        </p:grpSpPr>
        <p:sp>
          <p:nvSpPr>
            <p:cNvPr id="90" name=""/>
            <p:cNvSpPr/>
            <p:nvPr/>
          </p:nvSpPr>
          <p:spPr>
            <a:xfrm>
              <a:off x="4648320" y="434340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266720" y="3429000"/>
              <a:ext cx="38124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24280" y="4419720"/>
              <a:ext cx="457200" cy="761760"/>
            </a:xfrm>
            <a:prstGeom prst="line">
              <a:avLst/>
            </a:prstGeom>
            <a:ln w="936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724280" y="5257800"/>
              <a:ext cx="457200" cy="228600"/>
            </a:xfrm>
            <a:prstGeom prst="line">
              <a:avLst/>
            </a:prstGeom>
            <a:ln w="936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63960" y="4724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6920" y="4495680"/>
              <a:ext cx="373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y =800 cos30 = 692N = </a:t>
              </a:r>
              <a:r>
                <a:rPr b="1" lang="en-US" sz="2400" spc="-1" strike="noStrike">
                  <a:solidFill>
                    <a:srgbClr val="000000"/>
                  </a:solidFill>
                  <a:latin typeface="Artis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43400" y="32767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tis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-F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205640" y="365760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tis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tis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tis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3733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tisan"/>
              </a:rPr>
              <a:t>f=uN = .05 x 692 = 34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6400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net = 400– 31 =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5791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 =800N = mg ,  then m = 80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400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net = 369N = 80a,     so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 = 4.58 m/s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391520" y="41148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4:26:08Z</dcterms:created>
  <dc:creator>TZ</dc:creator>
  <dc:description/>
  <dc:language>en-US</dc:language>
  <cp:lastModifiedBy>SOCSD</cp:lastModifiedBy>
  <dcterms:modified xsi:type="dcterms:W3CDTF">2009-10-22T19:27:35Z</dcterms:modified>
  <cp:revision>10</cp:revision>
  <dc:subject/>
  <dc:title>PowerPoint Presentation</dc:title>
</cp:coreProperties>
</file>